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0DC-976E-4497-B8A1-E4DF8C8E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A49-30EC-4442-845C-0F681AF9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5BB-4409-4445-8C55-7AAC3E79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9D6-E2AA-47DF-B69A-02555916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39-8C7B-4DD9-9F5A-426FB84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E1F-2E62-4DCD-A1A6-C4460E8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276-6682-457F-B5FD-7F6C658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1F2-BB83-4286-ACD0-35976FD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240-4A0A-4774-9A48-5DB18D11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AD9-2B10-4979-8119-B109625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DFC-BB50-4655-AF5E-19FCD9F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EEB-A41B-4307-A6CE-7A8CD05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972-A5F3-4228-8AB7-93FF82B8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xyborx.dk/pictures/computers/laptop.jpg&amp;imgrefurl=http://www.xyborx.dk/computers.php&amp;h=1200&amp;w=1600&amp;sz=366&amp;tbnid=qdFVuLprOrJ_sM:&amp;tbnh=112&amp;tbnw=150&amp;hl=en&amp;start=5&amp;prev=/images%3Fq%3Dcomputers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/imgres?imgurl=http://www.globalgraffiti.net/computers/3975.jpg&amp;imgrefurl=http://www.globalgraffiti.net/computers/&amp;h=299&amp;w=208&amp;sz=11&amp;tbnid=LVUKoFZMU24h1M:&amp;tbnh=111&amp;tbnw=77&amp;hl=en&amp;start=6&amp;prev=/images%3Fq%3Dcomputers%26svnum%3D10%26hl%3Den%26lr%3D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psd48.ab.ca/hpe/computers.JPG&amp;imgrefurl=http://www.hpsd48.ab.ca/hpe/&amp;h=1200&amp;w=1792&amp;sz=438&amp;tbnid=UUyueiQod3CvbM:&amp;tbnh=100&amp;tbnw=150&amp;hl=en&amp;start=85&amp;prev=/images%3Fq%3Dcomputers%26start%3D80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bhbl.neric.org/chmc/students%2520working%2520at%2520computers.JPG&amp;imgrefurl=http://library.bhbl.neric.org/chmc/&amp;h=912&amp;w=1216&amp;sz=174&amp;tbnid=aH5beTqfBjkMoM:&amp;tbnh=112&amp;tbnw=150&amp;hl=en&amp;start=37&amp;prev=/images%3Fq%3Dcomputers%26start%3D20%26svnum%3D10%26hl%3Den%26lr%3D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bank.ipcmedia.com/imageBank/f/Free-Downloads.jpg&amp;imgrefurl=http://www.webuser.co.uk/specials/41396.html&amp;h=240&amp;w=240&amp;sz=14&amp;tbnid=nnS1Re0kI0HmVM:&amp;tbnh=104&amp;tbnw=104&amp;hl=en&amp;start=1&amp;prev=/images%3Fq%3Dfree%2Bsoftware%26svnum%3D10%26hl%3Den%26lr%3D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linux.md/wallpapers/16476-Ask-about-Free-Software.jpg&amp;imgrefurl=http://linux.md/mod/wall/&amp;h=1200&amp;w=1600&amp;sz=172&amp;tbnid=aaM6dwTfiVTdXM:&amp;tbnh=112&amp;tbnw=150&amp;hl=en&amp;start=18&amp;prev=/images%3Fq%3Dfree%2Bsoftware%26svnum%3D10%26hl%3Den%26lr%3D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in the Classro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ick at your leisu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Cor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Eastern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rk,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sk"/>
          <p:cNvPicPr/>
          <p:nvPr/>
        </p:nvPicPr>
        <p:blipFill>
          <a:blip r:embed="rId1"/>
          <a:stretch/>
        </p:blipFill>
        <p:spPr>
          <a:xfrm>
            <a:off x="3048120" y="0"/>
            <a:ext cx="30798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ives children a sense of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ownershi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 the assign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tudents-working-on-project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ship leads to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otiv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omputers"/>
          <p:cNvPicPr/>
          <p:nvPr/>
        </p:nvPicPr>
        <p:blipFill>
          <a:blip r:embed="rId1"/>
          <a:stretch/>
        </p:blipFill>
        <p:spPr>
          <a:xfrm>
            <a:off x="3200400" y="2286000"/>
            <a:ext cx="30481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 leads to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spir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evik"/>
          <p:cNvPicPr/>
          <p:nvPr/>
        </p:nvPicPr>
        <p:blipFill>
          <a:blip r:embed="rId1"/>
          <a:stretch/>
        </p:blipFill>
        <p:spPr>
          <a:xfrm>
            <a:off x="3589200" y="2971800"/>
            <a:ext cx="236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yproducts of motiv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100% on task focu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ally decreased behavior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center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take a facilitato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what I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stia”-free astronom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up2"/>
          <p:cNvPicPr/>
          <p:nvPr/>
        </p:nvPicPr>
        <p:blipFill>
          <a:blip r:embed="rId1"/>
          <a:stretch/>
        </p:blipFill>
        <p:spPr>
          <a:xfrm>
            <a:off x="685800" y="2651040"/>
            <a:ext cx="5867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ju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ky is not the limit with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olog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08320" y="4259160"/>
            <a:ext cx="477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educators use technology in thei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students how to behave and treat the equipment  b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hoto_043005_001"/>
          <p:cNvPicPr/>
          <p:nvPr/>
        </p:nvPicPr>
        <p:blipFill>
          <a:blip r:embed="rId1"/>
          <a:stretch/>
        </p:blipFill>
        <p:spPr>
          <a:xfrm>
            <a:off x="4267080" y="2347920"/>
            <a:ext cx="4419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ke to take a good four to six weeks at the beginning of the school year teaching the students how to act like learner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n’t know that I am doing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ensures a trouble fre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earn to meet my expect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hoto_090605_00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technology i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ece of equipment is numbered and invento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very student or group a number so they use the same compu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lapt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47960"/>
            <a:ext cx="3809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stablishes a sen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in charge of putting away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ipment (pc’s, laptops, handhelds, probeware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ab"/>
          <p:cNvPicPr/>
          <p:nvPr/>
        </p:nvPicPr>
        <p:blipFill>
          <a:blip r:embed="rId1"/>
          <a:stretch/>
        </p:blipFill>
        <p:spPr>
          <a:xfrm>
            <a:off x="4724280" y="1981080"/>
            <a:ext cx="3829320" cy="287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9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5029200"/>
            <a:ext cx="1103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implement this into our curriculum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ompu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5257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Point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/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tudents%2520working%2520at%2520compu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590920"/>
            <a:ext cx="3952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even specif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you can us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it on the we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Free-Downloa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971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6476-Ask-about-Free-Softwa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4330800"/>
            <a:ext cx="25905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ever the Applicatio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students an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end produc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angible (best) or intangible (o.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hoto_090605_00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2:56:37Z</dcterms:created>
  <dc:creator>west04169</dc:creator>
  <dc:description/>
  <dc:language>en-US</dc:language>
  <cp:lastModifiedBy>corbind</cp:lastModifiedBy>
  <dcterms:modified xsi:type="dcterms:W3CDTF">2009-02-25T19:34:50Z</dcterms:modified>
  <cp:revision>12</cp:revision>
  <dc:subject/>
  <dc:title>Technology in the Classroom</dc:title>
</cp:coreProperties>
</file>